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091E-8D66-464C-BFB3-662211161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CB61-5CCC-4276-8B9D-9B7E7783B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5C3D-A90F-479D-B49F-F3BC1CE83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43FE-EC39-4900-BFC9-1D2EC27C6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D8FFF-A16A-4428-9163-AA73C6BF2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341AD-C702-476E-A8F7-35AB23720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AAA22-73CC-4A69-8A70-A5E7B3683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0B475-AAA2-476E-A749-A72054675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78013-0A4C-4AB1-B043-CFB2D5EA2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2B3FB-7E88-4885-84E1-F32D46146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53CC9-B1BC-4683-A987-69F41BC1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4067-0CF3-4D87-AF1E-CF787F1DA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C9CEA-3B85-4DF0-A1C2-C1EF0B23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868FC-27FD-4CC3-BDFC-B7B1C040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FC960-2A9C-46CA-951D-78E7F0E63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08F5D-5690-4692-85B3-065636AD3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ADC36-E4B2-4D49-8937-4AEA1FBB1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2D8ED-9C10-4736-9B2E-FD911D0BF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01FE0-E49F-465D-9DAC-DCCE733E3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B3BE3-067F-4793-AC0D-683BD373C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A684F-5AF0-4BC9-AD22-8FB843FE1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77178-63F5-47C7-B122-71946C7DF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0116-F3B1-4052-A018-75CFD1814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9C6C8-8853-4619-BDA7-AFCDA8EF0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36714-3C3F-439D-B37F-59BB0D8B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F8208-AD82-46F7-9DB8-2E335B05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86E6B-8AAF-4741-A0E3-A49FD0DB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4B1E5-095B-48B1-8F53-2C827D760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B66FB-E570-463B-9C1F-E438A90B7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D12CE-14AD-4297-B618-40BC1071C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A6A89-AC21-40ED-A48B-E7D3B9C64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3BCEA-7835-41A8-ADFF-FCDC529A4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4DDDC-9A8F-42E5-9F63-4575E0D45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09E8-8523-42C3-99AA-B39E2D90E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B3519-F4AF-4C92-9B94-4B839D724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5FEA1-82F9-471C-8ADE-F92A1A781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8D022-86D6-480E-BC4A-A8B9DE83B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A90A6-B0AC-4C0F-8B0B-02AF9FC0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3B5D3-3BE3-40D6-A67D-254807AD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89002-A35D-4B4F-BFC1-679DFACA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CBA5A-B7D3-468B-A7FF-265F8EAF3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60E74-164C-47BA-8D99-3E4E3CA80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A675F-08E8-404F-ABA8-48591222F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72B0-01CB-460F-933A-272BD5742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7C28-E6CC-4C80-B1F9-2D3AC3189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0FB2-CFF5-4571-A278-82932F3D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7CDA-A0C1-4F2D-9CEE-6AEE6427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5117-8337-4359-B718-17726DF3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83896-C01F-4130-A905-64E401D89FD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2886A-4AA5-41F1-8F4B-D639CB05F37B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85204-E313-4AA9-AD26-4BB13ACD2095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D9DD0-3C71-46E3-9C27-E78F033D989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786456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In this unit students will be able to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termine the amplitude, period and phase shift of a trigonometric equation or grap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termine the graph of a trigonometric equ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termine the equation given a sin/cosine grap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lve real world problems using a sinusoidal func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velop their own sinusoidal application proble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urriculum Framing Ques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04480" indent="-2044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ssential:    How do patterns affect me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nit:  Which trigonometric function should I use 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del this situation and why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is a situation that can be modeled using 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nusoidal graph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tent:  What is the equation of the graph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is the graph of this equation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al world connec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cean tides—students graph depth of the tides at th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regon coas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ody temperature—students collect and graph their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ody temperature over 24 hou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erris wheel—students graph their height as they rid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Ferris whe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eart rate—students collect and analyze their hear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ate at rest, after exercising, after drinking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caffeinated beverage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Using technolog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udents will use heart rate monitors to collect data on:   resting heart rate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eart rate after exercise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eart rate after drinking a caffeinated drin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udents will use google form to post reflections about their understanding of classroom concep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Unit Projec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udents will choose an occupation in whic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lculating heart rate is an essential too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ctor, trainer, nurse, paramedic, athlete 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y will choose a layout format and create a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cument explaining how heart rate is used by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ir occupat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amphlet, poster, web site…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3T19:45:34Z</dcterms:created>
  <dc:creator>Lab1</dc:creator>
  <dc:description/>
  <dc:language>en-US</dc:language>
  <cp:lastModifiedBy>Lab1</cp:lastModifiedBy>
  <dcterms:modified xsi:type="dcterms:W3CDTF">2010-08-06T14:57:11Z</dcterms:modified>
  <cp:revision>9</cp:revision>
  <dc:subject/>
  <dc:title>Sinusoidal Graphs</dc:title>
</cp:coreProperties>
</file>